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09E3-0665-42C4-8E99-D32617936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9A72-0F02-47D7-B456-EC3A26182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AEC9-3474-4DDB-B251-CC780D458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0A1F-BB25-483F-AD9B-94F5C90D2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F7F05-222D-4EDD-8201-6BF5D6C4D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33D81-F988-4F29-9716-B6E57DEED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3A1B0-CF95-43BD-B3C9-938D575F9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82BB0-D563-4A78-9355-A70AC296F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D5796-D096-4323-AB8D-E7FC8E18C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A6EA5-6747-47AC-8627-040BAEAC8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07314-A42B-47F1-85B2-F78464A4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2FC0-23FA-4684-84E8-2AA0D6E58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B3971-B654-438C-B7DA-D64985D3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D40DA-5449-4EA0-9BD0-0727D42C7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40DE5-2A2F-4DB3-9A0A-122918FD9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F2943-ABF3-4FB7-9887-147C57C03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273E2-313E-4D23-A96D-D945AB093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14E4-1321-45AF-924D-C09D9746F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3C48-9F9A-4A36-8340-3ED22EC7B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69AC-3AC6-4917-AAB9-588419D1B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9016-AAD7-4764-9D82-E129C3E06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EFAD-6E15-42C1-A812-998C797F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C5E3-143E-4616-902C-EC11F6BAD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9F7D-611A-4308-8FA4-65533EC5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5A921-BD2B-462B-A542-5825C024DAE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FEE74-F859-4A3F-BA3D-6096A46FB3F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upload.wikimedia.org/wikipedia/commons/5/52/Black_Taoist_symbol.PNG&amp;imgrefurl=http://commons.wikimedia.org/wiki/File:Black_Taoist_symbol.PNG&amp;usg=__2DC7ro5fBacao9Uyv_Twkn8Hcfk=&amp;h=294&amp;w=286&amp;sz=32&amp;hl=en&amp;start=2&amp;tbnid=ZUjkjUuBEmvZLM:&amp;tbnh=115&amp;tbnw=112&amp;prev=/images%3Fq%3Dtaoism%2Bsymbol%26gbv%3D2%26hl%3Den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FQ:  What are the major world religions? </a:t>
            </a:r>
            <a:br>
              <a:rPr sz="3200"/>
            </a:b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L85(RR5)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38080" y="1294920"/>
            <a:ext cx="7467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 Now: Regents Practice Question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The ancient civilizations of Mesopotamia and Egypt were similar in that both cultures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.  developed along river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.  used the ziggurat form for their templ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.  established trade routes to Chin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.  used a hieroglyphic writing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• The United Nations Declaration of Human Rights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• Article from Mohandas Gandhi’s Indian Opini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• Excerpt from the letters of Catherine the Great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se three documents are considered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.  secondary sourc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.  examples of oral tradition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.  primary sourc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.  statements of different religious belief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uddhism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nder/ Locat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i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ia and Chin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mbo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el of Dharm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x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 Noble Truth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ight Fold Path--- methods to Nirvan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P (Figures)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ddhartha Gautama aka Buddh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257800" y="137160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uddhism- Important Beliefs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lightenment – spiritual well be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ight Fold Path steps to p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 up selfish desire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514600" y="3267000"/>
            <a:ext cx="428616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onfucianism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nder/ Locat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n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mbo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x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nalec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P (Figures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fucius –Philosopher and Found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791320" y="1523880"/>
            <a:ext cx="2647800" cy="26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Confucianism-  Important Beliefs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pect to eld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odness of people naturall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duc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ciety must be order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334120" y="2895480"/>
            <a:ext cx="3590640" cy="37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Daoism (Taoism)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nder/ Locat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n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mbo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ing Ya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x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ode J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P ( Figur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ozi (founder)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29200" y="1981080"/>
            <a:ext cx="31892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Daoism – Important Beliefs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ek tranquil life by excluding des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draw from foul societ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er relationships with 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hristianit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nded / Locat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lestine in Ancient Rom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ld Wid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mb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ly Cros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x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ble (Old and New Testament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en Command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P ---Figur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esu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400800" y="1295280"/>
            <a:ext cx="187812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hristianity Important Beliefs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otheis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was the son of God and the Messi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lvation and eternal life to follow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cy and sympathy to others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Judaism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nded/ Locat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rtile Crescent –Hebrew peop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ld Wid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mbo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r of Davi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x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rah (written in Hebrew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P (Figur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raha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715000" y="3124080"/>
            <a:ext cx="285768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Judaism –Important Beliefs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otheistic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orah is a sacred recording of laws in Jewish histo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gave Moses the 10 commandments through Mos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Islam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nded/ Loc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abi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ddle East/ Africa/ Europ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mbo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r and Cresc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x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ra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ve Pillar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P (Figur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hammad is the Prophe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410080" y="19810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Islam– Important Beliefs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otheistic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lat – 5 time daily pray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jj – once a lifetime journey to Mecc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st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lping the poo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induism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nded/ Locat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us Valley –Ind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ia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mbo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x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das--- collections of prayers and stori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P (Figure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shnu the Preserv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iva the Destroy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019920" y="1600200"/>
            <a:ext cx="19047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induism –Important Beliefs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ytheistic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arma –positive life act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harma –moral duti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ste syste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3573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4T18:32:55Z</dcterms:created>
  <dc:creator>NYCDOE</dc:creator>
  <dc:description/>
  <dc:language>en-US</dc:language>
  <cp:lastModifiedBy>NYCDOE</cp:lastModifiedBy>
  <dcterms:modified xsi:type="dcterms:W3CDTF">2009-05-14T19:49:09Z</dcterms:modified>
  <cp:revision>3</cp:revision>
  <dc:subject/>
  <dc:title>FQ:  What are the major world religions?  L85(RR5) </dc:title>
</cp:coreProperties>
</file>